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9A9-5F97-4581-8204-3AA3C1E1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311-50F1-482B-A14F-7C64CF89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F001-9DEE-44D2-B7D5-BF544146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28C-1893-4923-9B5B-41105038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D86-1E5A-47FE-A375-A69091AC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718-FBC3-421C-B6C5-09C96285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53F-6E1B-4595-92E6-F7F24FBD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382-6F07-4413-BBAB-F8192855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3B0-177B-4B51-8FB8-96784B5B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760-9B27-4D1C-8072-F00165A5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E46-8B15-4550-AE28-5B8EC44B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4A6-1CDD-4A56-A23B-CF62856F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F166-72D2-4CE2-979F-5ACAFE873FA8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43120"/>
            <a:ext cx="9144000" cy="147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Verdana"/>
              </a:rPr>
              <a:t>ACIDS &amp;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ases contain hydroxide ions: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bases: baking soda, soap, antac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eous solutions of bases conduct electricity becaus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soc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bases are safe to consume or be in contact with.  Others are corrosive &amp; dang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have a bitter taste &amp; slippery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829160" y="2362320"/>
            <a:ext cx="1911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aO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27590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838080" y="5943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odium 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457200" y="6858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342120" y="2286000"/>
            <a:ext cx="234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aH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3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68738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724280" y="5943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odium bi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-280080" y="167652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at are the r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COMMON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18273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ame rules as for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al formula in solu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an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al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O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dium 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(OH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gnesium 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(OH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cium 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H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carbon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dium bicarbon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128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1"/>
          <p:cNvSpPr/>
          <p:nvPr/>
        </p:nvSpPr>
        <p:spPr>
          <a:xfrm>
            <a:off x="7122960" y="990720"/>
            <a:ext cx="420840" cy="609480"/>
          </a:xfrm>
          <a:custGeom>
            <a:avLst/>
            <a:gdLst>
              <a:gd name="textAreaLeft" fmla="*/ 0 w 420840"/>
              <a:gd name="textAreaRight" fmla="*/ 421200 w 420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2"/>
          <p:cNvSpPr/>
          <p:nvPr/>
        </p:nvSpPr>
        <p:spPr>
          <a:xfrm>
            <a:off x="160020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1371600" y="21337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dium hydr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80060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en-US" sz="48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595320" y="42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951160" y="42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376596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608400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NaOH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-291960" y="99072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1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24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24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ompounds that produce hydrogen ions in solution: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acids: citric acid, vine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eous solutions of acids conduct electricity becaus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on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cids are corrosive &amp; react wi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 have a sour ta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830240" y="2362320"/>
            <a:ext cx="1954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4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>
            <a:off x="27590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371600" y="5943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ulfu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0666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XY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57200" y="6858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054120" y="2286000"/>
            <a:ext cx="1637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68738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029200" y="5943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51814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NARY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-280080" y="167652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at are the r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BINARY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18273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mposed of hydrogen + a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al formula in solu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 an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ical Acid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u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flu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l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chl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Br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brom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od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iod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59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1"/>
          <p:cNvSpPr/>
          <p:nvPr/>
        </p:nvSpPr>
        <p:spPr>
          <a:xfrm>
            <a:off x="6970680" y="990720"/>
            <a:ext cx="420840" cy="609480"/>
          </a:xfrm>
          <a:custGeom>
            <a:avLst/>
            <a:gdLst>
              <a:gd name="textAreaLeft" fmla="*/ 0 w 420840"/>
              <a:gd name="textAreaRight" fmla="*/ 421200 w 420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2"/>
          <p:cNvSpPr/>
          <p:nvPr/>
        </p:nvSpPr>
        <p:spPr>
          <a:xfrm>
            <a:off x="175248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1676520" y="22096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ydrobrom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80060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B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95320" y="42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951160" y="42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76596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08400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HBr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-291960" y="99072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8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8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OXO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1827360"/>
            <a:ext cx="890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posed of hydrogen, oxygen, and another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yatomic 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 an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hl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rbon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hosph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78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1"/>
          <p:cNvSpPr/>
          <p:nvPr/>
        </p:nvSpPr>
        <p:spPr>
          <a:xfrm>
            <a:off x="6284880" y="990720"/>
            <a:ext cx="420840" cy="609480"/>
          </a:xfrm>
          <a:custGeom>
            <a:avLst/>
            <a:gdLst>
              <a:gd name="textAreaLeft" fmla="*/ 0 w 420840"/>
              <a:gd name="textAreaRight" fmla="*/ 421200 w 420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2"/>
          <p:cNvSpPr/>
          <p:nvPr/>
        </p:nvSpPr>
        <p:spPr>
          <a:xfrm>
            <a:off x="243828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20968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hlor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800600" y="449568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595320" y="42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951160" y="42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76596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608400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HCl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3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-291960" y="99072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12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1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OXO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1827360"/>
            <a:ext cx="890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olyatomic ion ends in “ite”, use “–ous” for the acid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yatomic 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 an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hlor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rbon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ous 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97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1"/>
          <p:cNvSpPr/>
          <p:nvPr/>
        </p:nvSpPr>
        <p:spPr>
          <a:xfrm>
            <a:off x="6361200" y="990720"/>
            <a:ext cx="420480" cy="609480"/>
          </a:xfrm>
          <a:custGeom>
            <a:avLst/>
            <a:gdLst>
              <a:gd name="textAreaLeft" fmla="*/ 0 w 420480"/>
              <a:gd name="textAreaRight" fmla="*/ 420840 w 420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2"/>
          <p:cNvSpPr/>
          <p:nvPr/>
        </p:nvSpPr>
        <p:spPr>
          <a:xfrm>
            <a:off x="243828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220968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hlorous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00600" y="449568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595320" y="42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951160" y="42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76596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08400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HCl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2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-291960" y="99072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16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16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8:51:37Z</dcterms:created>
  <dc:creator>User</dc:creator>
  <dc:description/>
  <dc:language>en-US</dc:language>
  <cp:lastModifiedBy>rubina khan</cp:lastModifiedBy>
  <dcterms:modified xsi:type="dcterms:W3CDTF">2016-09-29T02:30:04Z</dcterms:modified>
  <cp:revision>103</cp:revision>
  <dc:subject/>
  <dc:title>Naming and Formula Writing</dc:title>
</cp:coreProperties>
</file>